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248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24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17440" y="693360"/>
            <a:ext cx="462312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78328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78328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0485-E8F0-4339-9FC0-D423C337D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17440" y="69372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5000-407E-4AC8-8007-04225A4DCB17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17440" y="69372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7D02-E4BD-4B88-979A-04B4F2654EF7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7440" y="69372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ations are able to restrict or restrain themselves e.g. United States in the Vietnam War did not use atomic weapon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Proxy w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CBAF-53EB-4CFC-BE18-FDA31028F2FA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17440" y="69372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Mujahidee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SSR in the Afghanistan War from 1979-198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8F0C-B65A-43C5-96D8-7C6CA506277E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7440" y="69372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.g. Hamas (Islamic Resistance Movement) in the Middle East against Israel (and its allie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6FE2-6707-487D-B3F0-5BC3B5452E10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17440" y="69372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Cuban Missile Cri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E22F-9DA9-47E8-B101-FAF110340BB4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7440" y="69372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.g. Japan withdrawing from the League of Nations in 1933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FB81-CEA0-4B62-8F56-EDFBC154EE54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17440" y="69372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.g. sanctions imposed against South Africa by the UN and the Commonwealth during the era of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parthe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7A33-EE4C-40CD-A8F0-08A4C58F9F44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7440" y="69372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theory behind th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League of Nations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most obvious in actions by th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United Nations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D446-506E-4EAD-98BE-FC24FBD2C072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17440" y="69372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.g. Nobel Peace Prize for Lester B. Pearson, 1957 for introducing the idea of UN peacekeeping for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FA40-1DFC-49E5-8D9A-E9A9B589781F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17440" y="69372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World Trade Organization (WTO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1C23-DAE2-4E31-BA79-F2B4A51A8C18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17440" y="69372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.g. Comintern (the Communist International) which share the same political beliefs and objec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African Union (AU)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.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굴림"/>
              </a:rPr>
              <a:t>OAS (Organization of American Stat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1E68-60B4-45B7-B32F-CA1C901DC2A8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17440" y="69372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.g. the International Olympic Organ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.g. acid rain agreements between Canada and the United Stat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97FF-23CE-4D45-B1EA-4E75ABA27A15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17440" y="69372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cultural groups, popular movement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GOs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ork with governments, but are not controlled by governmen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funded by governments thoug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D9AA-5CE6-4B38-93DA-E9C17C4C4CD2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7440" y="69372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.g. the United States against the al-Qaeda and the Taliban in Afghanistan after the attack on the World Trade Centre in New Yor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40FA-7171-4561-B401-A3E275B7B5B4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17440" y="69372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5C09-4370-401A-82D2-227D61256640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17440" y="69372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4720-B122-4422-9344-56816AFABFEF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69372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1772-38FB-44F8-8ECB-26F39E8BD841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17440" y="69372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2839-8FCA-485D-9E4F-EA50C1F38F19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4987-1494-4BDD-B576-B8CBB0B0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8297-2E8F-4A66-B32F-045D5FBF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1244-BCB8-461E-8B45-0A4B619D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B8A-E14F-44BE-9CD3-7795F12E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9A8F-1ECC-40A0-BF88-3F0E3838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5E47-1366-492B-A541-7AA6CE17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739C-BBFF-4CF1-9BF2-5E2A01E3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5635-AC2E-4DD0-B604-E98F002F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9F59-9126-4445-8021-468A2A2A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8F14-E24A-4C6A-8E29-F309ECD2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3BE9-6288-476E-BB7A-38DE3AA2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662D-CFD4-479D-B491-3CC89E34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F0E6-7811-43BE-89EE-B7C6249B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3BF2-E1D9-4F81-8F90-39F482F5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B553-EF3A-4253-B7ED-3D4076BA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3C33-6F6D-42C8-ABD5-AEFD5F09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55D8-68BF-40DA-A70F-8387BE86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60B1-CF40-4FE8-A26B-7666B814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9FA2-F966-4E30-8F24-1C4F0789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8952-3547-4129-BF6E-EE3F0CA6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0289-3B4C-4570-A319-0F0E5130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E282-E7AA-456D-BDE9-6381B8B4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4F78-CE4A-4870-94BC-2D857301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D814-B015-44AB-B29F-F9C27851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4785-9367-4186-B3BE-D0F0C9E9A7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D488-7543-47AA-8994-2737C527DDE6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Topic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굴림"/>
              </a:rPr>
              <a:t>Confrontation &amp; Cooper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굴림"/>
              </a:rPr>
              <a:t>In the 20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  <a:ea typeface="굴림"/>
              </a:rPr>
              <a:t>th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굴림"/>
              </a:rPr>
              <a:t> Centur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Forms of confro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Total warfare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defined as the absolute total commitment to war and to conflict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40LondonBlitz"/>
          <p:cNvPicPr/>
          <p:nvPr/>
        </p:nvPicPr>
        <p:blipFill>
          <a:blip r:embed="rId1"/>
          <a:stretch/>
        </p:blipFill>
        <p:spPr>
          <a:xfrm>
            <a:off x="533520" y="685800"/>
            <a:ext cx="4419360" cy="3462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40bombers"/>
          <p:cNvPicPr/>
          <p:nvPr/>
        </p:nvPicPr>
        <p:blipFill>
          <a:blip r:embed="rId2"/>
          <a:stretch/>
        </p:blipFill>
        <p:spPr>
          <a:xfrm>
            <a:off x="1600200" y="4191120"/>
            <a:ext cx="243828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1940sSPIES150"/>
          <p:cNvPicPr/>
          <p:nvPr/>
        </p:nvPicPr>
        <p:blipFill>
          <a:blip r:embed="rId3"/>
          <a:stretch/>
        </p:blipFill>
        <p:spPr>
          <a:xfrm>
            <a:off x="4952880" y="990720"/>
            <a:ext cx="33339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Limited war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limit the conflict within a certain region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gree not to use a certain type of weapon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napalm"/>
          <p:cNvPicPr/>
          <p:nvPr/>
        </p:nvPicPr>
        <p:blipFill>
          <a:blip r:embed="rId1"/>
          <a:stretch/>
        </p:blipFill>
        <p:spPr>
          <a:xfrm>
            <a:off x="1143000" y="355680"/>
            <a:ext cx="716292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861080" cy="61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IransProxyWar-X"/>
          <p:cNvPicPr/>
          <p:nvPr/>
        </p:nvPicPr>
        <p:blipFill>
          <a:blip r:embed="rId1"/>
          <a:stretch/>
        </p:blipFill>
        <p:spPr>
          <a:xfrm>
            <a:off x="685800" y="51444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Guerilla war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tactic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Mujahideen Clashes During 1992"/>
          <p:cNvPicPr/>
          <p:nvPr/>
        </p:nvPicPr>
        <p:blipFill>
          <a:blip r:embed="rId1"/>
          <a:stretch/>
        </p:blipFill>
        <p:spPr>
          <a:xfrm>
            <a:off x="1778040" y="152280"/>
            <a:ext cx="5199120" cy="60962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1661400" y="63612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Mujahide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Terrorism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either a soldier or an unofficial warrior who attacks a civilian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hamas"/>
          <p:cNvPicPr/>
          <p:nvPr/>
        </p:nvPicPr>
        <p:blipFill>
          <a:blip r:embed="rId1"/>
          <a:stretch/>
        </p:blipFill>
        <p:spPr>
          <a:xfrm>
            <a:off x="1292400" y="304920"/>
            <a:ext cx="6291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is the world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rces of conflict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slamic fundamentalism versus economic globalization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aves and have not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rces of cooperation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nvironmental and health.  Kyoto Accord (?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United Nations: membership has increased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FRONTLINE presents the inside history of the IRA's 30-year armed conflict in Northern Ireland"/>
          <p:cNvPicPr/>
          <p:nvPr/>
        </p:nvPicPr>
        <p:blipFill>
          <a:blip r:embed="rId1"/>
          <a:stretch/>
        </p:blipFill>
        <p:spPr>
          <a:xfrm>
            <a:off x="380880" y="990720"/>
            <a:ext cx="8382240" cy="51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Brinkmanship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edge of war, moment just before a war begins : line in the san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ilw3584"/>
          <p:cNvPicPr/>
          <p:nvPr/>
        </p:nvPicPr>
        <p:blipFill>
          <a:blip r:embed="rId1"/>
          <a:stretch/>
        </p:blipFill>
        <p:spPr>
          <a:xfrm>
            <a:off x="380880" y="579600"/>
            <a:ext cx="8534520" cy="58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1062391313"/>
          <p:cNvPicPr/>
          <p:nvPr/>
        </p:nvPicPr>
        <p:blipFill>
          <a:blip r:embed="rId1"/>
          <a:stretch/>
        </p:blipFill>
        <p:spPr>
          <a:xfrm>
            <a:off x="1676520" y="228600"/>
            <a:ext cx="5656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Diplomatic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soft language, but…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ggressive at meetings, argue, write nasty letter, make bold speeches</a:t>
            </a: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manlowe"/>
          <p:cNvPicPr/>
          <p:nvPr/>
        </p:nvPicPr>
        <p:blipFill>
          <a:blip r:embed="rId1"/>
          <a:stretch/>
        </p:blipFill>
        <p:spPr>
          <a:xfrm>
            <a:off x="1600200" y="1981080"/>
            <a:ext cx="62006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Economic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trade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economic blockade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or </a:t>
            </a: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embarg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Coop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cooperation"/>
          <p:cNvPicPr/>
          <p:nvPr/>
        </p:nvPicPr>
        <p:blipFill>
          <a:blip r:embed="rId1"/>
          <a:stretch/>
        </p:blipFill>
        <p:spPr>
          <a:xfrm>
            <a:off x="1255680" y="2273400"/>
            <a:ext cx="704844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otives for Coop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Allied securit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 formal relationship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States promise to protect each other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  <a:ea typeface="굴림"/>
              </a:rPr>
              <a:t>Collective defens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nato-flags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Confro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wtcCollapse3"/>
          <p:cNvPicPr/>
          <p:nvPr/>
        </p:nvPicPr>
        <p:blipFill>
          <a:blip r:embed="rId1"/>
          <a:stretch/>
        </p:blipFill>
        <p:spPr>
          <a:xfrm>
            <a:off x="2801880" y="1981080"/>
            <a:ext cx="3956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Collective securit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the promise to come to the aid of any nation under attack, anywhere around the globe, whether there is a preexisting friendly relationship or not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20514cs"/>
          <p:cNvPicPr/>
          <p:nvPr/>
        </p:nvPicPr>
        <p:blipFill>
          <a:blip r:embed="rId1"/>
          <a:stretch/>
        </p:blipFill>
        <p:spPr>
          <a:xfrm>
            <a:off x="1219320" y="417600"/>
            <a:ext cx="6858000" cy="61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Internationalis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ll nations are of equal importance motivates states to become active in global affair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Nationalis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recognized around the world for some positive contribution – prestig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Balance of pow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the desire to maintain unity and strength on your side to balance the strength of the other side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Humanitarianis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the belief that the survival and quality of life of human being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Global surviva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issues that require the cooperation of the entire glob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Economic prosperit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cooperation in terms of trad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wto-1"/>
          <p:cNvPicPr/>
          <p:nvPr/>
        </p:nvPicPr>
        <p:blipFill>
          <a:blip r:embed="rId1"/>
          <a:stretch/>
        </p:blipFill>
        <p:spPr>
          <a:xfrm>
            <a:off x="685800" y="1219320"/>
            <a:ext cx="716292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Forms of Coop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Allianc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Economic bloc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to lower tariffs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promote trade and economic development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nd relate to the world as one bloc of nations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Political grouping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working with other like minded stat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Regional organiza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focusing of issues that relate to your reg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5" name="Picture 5" descr="logo"/>
          <p:cNvPicPr/>
          <p:nvPr/>
        </p:nvPicPr>
        <p:blipFill>
          <a:blip r:embed="rId1"/>
          <a:stretch/>
        </p:blipFill>
        <p:spPr>
          <a:xfrm>
            <a:off x="6172200" y="304920"/>
            <a:ext cx="1981080" cy="1785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Logo%20-%20OAS"/>
          <p:cNvPicPr/>
          <p:nvPr/>
        </p:nvPicPr>
        <p:blipFill>
          <a:blip r:embed="rId2"/>
          <a:stretch/>
        </p:blipFill>
        <p:spPr>
          <a:xfrm>
            <a:off x="0" y="0"/>
            <a:ext cx="220680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International organizatio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more than one state, which works towards satisfying some common objectiv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greeme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ny formal, written agreement between states on a specific issu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ke a position on the following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world would be a better place if all national boundaries disappeared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Non-governmental organiza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1" name="Picture 9" descr="candle"/>
          <p:cNvPicPr/>
          <p:nvPr/>
        </p:nvPicPr>
        <p:blipFill>
          <a:blip r:embed="rId1"/>
          <a:stretch/>
        </p:blipFill>
        <p:spPr>
          <a:xfrm>
            <a:off x="7467480" y="152280"/>
            <a:ext cx="1428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4"/>
          <p:cNvSpPr/>
          <p:nvPr/>
        </p:nvSpPr>
        <p:spPr>
          <a:xfrm>
            <a:off x="457200" y="3657600"/>
            <a:ext cx="8305920" cy="0"/>
          </a:xfrm>
          <a:prstGeom prst="line">
            <a:avLst/>
          </a:prstGeom>
          <a:ln w="572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61560" y="3770280"/>
            <a:ext cx="20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upranationalis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499840" y="3770280"/>
            <a:ext cx="19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nternationalis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U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105520" y="3809880"/>
            <a:ext cx="14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Nationalis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6707160" y="3809880"/>
            <a:ext cx="204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Ultra-nationalis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Nazi-German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otives for Confro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Nationalism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Extreme devotion to ones country (nation-stat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96-nationalism"/>
          <p:cNvPicPr/>
          <p:nvPr/>
        </p:nvPicPr>
        <p:blipFill>
          <a:blip r:embed="rId1"/>
          <a:stretch/>
        </p:blipFill>
        <p:spPr>
          <a:xfrm>
            <a:off x="609480" y="547560"/>
            <a:ext cx="792504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Self-determination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group of people living within a nation that is trying to become independent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Expansionism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simply a synonym for </a:t>
            </a: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imperialism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Ideology/beliefs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system of beliefs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굴림"/>
              </a:rPr>
              <a:t> and valu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3:43:24Z</dcterms:created>
  <dc:creator>Generic</dc:creator>
  <dc:description/>
  <dc:language>en-US</dc:language>
  <cp:lastModifiedBy>plouffeh</cp:lastModifiedBy>
  <dcterms:modified xsi:type="dcterms:W3CDTF">2008-04-15T19:25:09Z</dcterms:modified>
  <cp:revision>15</cp:revision>
  <dc:subject/>
  <dc:title>Topic B</dc:title>
</cp:coreProperties>
</file>